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3CB-3426-4A5B-9333-4C8B7636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F8A-E54F-466E-8431-701E20DB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C5C-27DB-42EC-8B5F-C32B9CBC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199-B8DC-45ED-8EA0-33740F26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9D0-1CBE-4A8D-A327-88A528D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1D8-3042-42BC-8383-E893F727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E57-D209-4E29-841C-FB50352E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F5F-CD02-4083-B7E4-95211FB4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FB6-C013-4A83-BB54-91913BF1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393-C38F-47BE-90F0-20F27E8D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C18-1338-4697-B5F9-C31026C6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164-FE21-48ED-9727-67CC9EE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F239-FF2F-4652-B251-D5706DCA14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B7C4-9094-4227-869A-30ED96F1E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Рисунок1"/>
          <p:cNvPicPr/>
          <p:nvPr/>
        </p:nvPicPr>
        <p:blipFill>
          <a:blip r:embed="rId2"/>
          <a:stretch/>
        </p:blipFill>
        <p:spPr>
          <a:xfrm>
            <a:off x="152280" y="1297080"/>
            <a:ext cx="8839440" cy="5560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50920" y="4653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важаемые колл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Мы рады приветствовать вас от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ральского государственного педагогического универс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3756240" cy="296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192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6FA-A71C-4A76-9EA4-C5446B0E2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28600" y="1424160"/>
            <a:ext cx="787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вопросам Вы можете обращ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академическ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омеру телефон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(343)336-14-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Центра: Белоусова Наталья Сагидул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332000" y="1793160"/>
            <a:ext cx="64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IMG_2038.JPG"/>
          <p:cNvPicPr/>
          <p:nvPr/>
        </p:nvPicPr>
        <p:blipFill>
          <a:blip r:embed="rId2"/>
          <a:stretch/>
        </p:blipFill>
        <p:spPr>
          <a:xfrm>
            <a:off x="2571840" y="3643200"/>
            <a:ext cx="4024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247E-542D-4AA0-9F74-CBB06C08D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52280" y="1103400"/>
            <a:ext cx="868680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195640" y="26028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ект «Педагогические клас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F89C-24D8-46D9-BDC0-FFAB42806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PHOTO-2019-09-16-10-24-25.jpg"/>
          <p:cNvPicPr/>
          <p:nvPr/>
        </p:nvPicPr>
        <p:blipFill>
          <a:blip r:embed="rId1"/>
          <a:stretch/>
        </p:blipFill>
        <p:spPr>
          <a:xfrm>
            <a:off x="179280" y="692280"/>
            <a:ext cx="8867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новная цель работы педагогического клас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8360" y="2528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формирование у обучающихся целенаправленной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профессионально-педагогической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ориентации, устойчивого интереса к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едагогический класс создаётся на базе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учение ведется по предложенной университетом програм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39640" y="175536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2. Педагогический класс создаётся на базе школы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, которая выступает в качестве ресурсного центра, в котором обучаются ученики разных школ.  Обучение ведется по предложенной университетом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93824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«Введение в профессиональную деятельность» (Введение в педагогику, Информационная культура педагога, социально-культурные проекты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сихологический практикум «Я – лидер: стратегии успех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новы межкультурной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ГПУ пред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17157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 Преподаватели университета проводят курсы повышения квалификации и осуществляют методическое сопровождение педагогов, работающих в педагогически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. Преподаватели университета проводят занятия с учениками в очной (на сессиях) и очно-заочной (дистантной)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. Преподаватели университета осуществляют педагогическое сопровождение процесса обучения и проводят независимую оценку качества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4. Осуществляют информационное сопровождение процесса формирования педагогическ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C19-C20E-482F-AC36-6666321FF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304920" y="96840"/>
            <a:ext cx="8534160" cy="600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5661" t="0" r="0" b="-1749"/>
          <a:stretch/>
        </p:blipFill>
        <p:spPr>
          <a:xfrm>
            <a:off x="344520" y="1292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EYjai99RxyA"/>
          <p:cNvPicPr/>
          <p:nvPr/>
        </p:nvPicPr>
        <p:blipFill>
          <a:blip r:embed="rId4"/>
          <a:stretch/>
        </p:blipFill>
        <p:spPr>
          <a:xfrm>
            <a:off x="344520" y="414036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IMG_2088.JPG"/>
          <p:cNvPicPr/>
          <p:nvPr/>
        </p:nvPicPr>
        <p:blipFill>
          <a:blip r:embed="rId5"/>
          <a:srcRect l="0" t="0" r="0" b="-826"/>
          <a:stretch/>
        </p:blipFill>
        <p:spPr>
          <a:xfrm>
            <a:off x="4724280" y="1292400"/>
            <a:ext cx="3544920" cy="2595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день знаний.JPG"/>
          <p:cNvPicPr/>
          <p:nvPr/>
        </p:nvPicPr>
        <p:blipFill>
          <a:blip r:embed="rId6"/>
          <a:stretch/>
        </p:blipFill>
        <p:spPr>
          <a:xfrm>
            <a:off x="4876920" y="4002120"/>
            <a:ext cx="3504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07:44:46Z</dcterms:created>
  <dc:creator>user</dc:creator>
  <dc:description/>
  <dc:language>en-US</dc:language>
  <cp:lastModifiedBy>User</cp:lastModifiedBy>
  <dcterms:modified xsi:type="dcterms:W3CDTF">2020-10-29T06:40:42Z</dcterms:modified>
  <cp:revision>163</cp:revision>
  <dc:subject/>
  <dc:title>Слайд 1</dc:title>
</cp:coreProperties>
</file>