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F785-5B32-4DE1-86B3-D14E1BD5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53D-3BC3-45EA-BD21-52BB7E7F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B11-931F-471D-8590-75F63E17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315F-3B88-4463-8A24-806E1AEB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D74-6C22-4D39-8A90-D6C2F089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012-2E2C-474F-A9ED-6C7C1244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FB52-320A-4CE2-81C6-20AA8E74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78D8-E53E-49AE-AF8C-6A5E296B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ADC4-1F1B-4246-847B-18AAD8D8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F1EF-3A40-4BAF-8B8C-0864AF94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B55A-3543-45A7-8217-EE7A02A8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C83-3FE0-4C43-BA54-E4547704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23B4-AD8B-4888-898C-207A7023ABA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C404-FDA0-4F70-B67E-89F529C85C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1" descr="Рисунок1"/>
          <p:cNvPicPr/>
          <p:nvPr/>
        </p:nvPicPr>
        <p:blipFill>
          <a:blip r:embed="rId2"/>
          <a:stretch/>
        </p:blipFill>
        <p:spPr>
          <a:xfrm>
            <a:off x="152280" y="1297080"/>
            <a:ext cx="8839440" cy="55609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50920" y="465300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Britannic Bold"/>
              </a:rPr>
              <a:t>Уважаемые коллег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Britannic Bold"/>
              </a:rPr>
              <a:t>Мы рады приветствовать вас от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Britannic Bold"/>
              </a:rPr>
              <a:t>Уральского государственного педагогического университе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2666880" y="1752480"/>
            <a:ext cx="3756240" cy="296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4"/>
          <a:stretch/>
        </p:blipFill>
        <p:spPr>
          <a:xfrm>
            <a:off x="3505320" y="2438280"/>
            <a:ext cx="219204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ECCD-6829-465C-8AD5-FD0B8C326D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фон презентации"/>
          <p:cNvPicPr/>
          <p:nvPr/>
        </p:nvPicPr>
        <p:blipFill>
          <a:blip r:embed="rId2"/>
          <a:stretch/>
        </p:blipFill>
        <p:spPr>
          <a:xfrm>
            <a:off x="-10800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228600" y="1424160"/>
            <a:ext cx="7872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вопросам Вы можете обращать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нтр академического взаимо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номеру телефона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7(343)336-14-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ректор Центра: Белоусова Наталья Сагидул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1332000" y="1793160"/>
            <a:ext cx="645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Arial"/>
                <a:ea typeface="Arial"/>
              </a:rPr>
              <a:t>Благодарим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9" descr="IMG_2038.JPG"/>
          <p:cNvPicPr/>
          <p:nvPr/>
        </p:nvPicPr>
        <p:blipFill>
          <a:blip r:embed="rId2"/>
          <a:stretch/>
        </p:blipFill>
        <p:spPr>
          <a:xfrm>
            <a:off x="2571840" y="3643200"/>
            <a:ext cx="40240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0F6D-EB28-4D47-BBEE-DB100EE569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фон презентации"/>
          <p:cNvPicPr/>
          <p:nvPr/>
        </p:nvPicPr>
        <p:blipFill>
          <a:blip r:embed="rId2"/>
          <a:stretch/>
        </p:blipFill>
        <p:spPr>
          <a:xfrm>
            <a:off x="-108000" y="-17136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152280" y="1103400"/>
            <a:ext cx="8686800" cy="5583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2195640" y="260280"/>
            <a:ext cx="65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оект «Педагогические класс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2854-6CA1-4E65-A006-3DF312F4FB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7" descr="PHOTO-2019-09-16-10-24-25.jpg"/>
          <p:cNvPicPr/>
          <p:nvPr/>
        </p:nvPicPr>
        <p:blipFill>
          <a:blip r:embed="rId1"/>
          <a:stretch/>
        </p:blipFill>
        <p:spPr>
          <a:xfrm>
            <a:off x="179280" y="692280"/>
            <a:ext cx="88678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7085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сновная цель работы педагогического класс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68360" y="252864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формирование у обучающихся целенаправленной </a:t>
            </a:r>
            <a:r>
              <a:rPr b="0" lang="ru-RU" sz="2800" spc="-1" strike="noStrike">
                <a:solidFill>
                  <a:srgbClr val="1f497d"/>
                </a:solidFill>
                <a:latin typeface="Arial Black"/>
              </a:rPr>
              <a:t>профессионально-педагогической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 ориентации, устойчивого интереса к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рганизационные мод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62828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Педагогический класс создаётся на базе образовательн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бучение ведется по предложенной университетом програм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539640" y="175536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2. Педагогический класс создаётся на базе школы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, которая выступает в качестве ресурсного центра, в котором обучаются ученики разных школ.  Обучение ведется по предложенной университетом програм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6"/>
          <p:cNvSpPr/>
          <p:nvPr/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рганизационны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6"/>
          <p:cNvSpPr/>
          <p:nvPr/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сциплин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79280" y="193824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«Введение в профессиональную деятельность» (Введение в педагогику, Информационная культура педагога, социально-культурные проекты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Психологический практикум «Я – лидер: стратегии успех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Основы межкультурной коммуник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6"/>
          <p:cNvSpPr/>
          <p:nvPr/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рГПУ предлаг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95280" y="1715760"/>
            <a:ext cx="835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1. Преподаватели университета проводят курсы повышения квалификации и осуществляют методическое сопровождение педагогов, работающих в педагогических клас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2. Преподаватели университета проводят занятия с учениками в очной (на сессиях) и очно-заочной (дистантной)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3. Преподаватели университета осуществляют педагогическое сопровождение процесса обучения и проводят независимую оценку качества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4. Осуществляют информационное сопровождение процесса формирования педагогических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2600-03ED-45CD-9BBE-B4D314359A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фон презентации"/>
          <p:cNvPicPr/>
          <p:nvPr/>
        </p:nvPicPr>
        <p:blipFill>
          <a:blip r:embed="rId2"/>
          <a:stretch/>
        </p:blipFill>
        <p:spPr>
          <a:xfrm>
            <a:off x="304920" y="96840"/>
            <a:ext cx="8534160" cy="600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rcRect l="5661" t="0" r="0" b="-1749"/>
          <a:stretch/>
        </p:blipFill>
        <p:spPr>
          <a:xfrm>
            <a:off x="344520" y="1292400"/>
            <a:ext cx="380988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EYjai99RxyA"/>
          <p:cNvPicPr/>
          <p:nvPr/>
        </p:nvPicPr>
        <p:blipFill>
          <a:blip r:embed="rId4"/>
          <a:stretch/>
        </p:blipFill>
        <p:spPr>
          <a:xfrm>
            <a:off x="344520" y="4140360"/>
            <a:ext cx="3809880" cy="25383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IMG_2088.JPG"/>
          <p:cNvPicPr/>
          <p:nvPr/>
        </p:nvPicPr>
        <p:blipFill>
          <a:blip r:embed="rId5"/>
          <a:srcRect l="0" t="0" r="0" b="-826"/>
          <a:stretch/>
        </p:blipFill>
        <p:spPr>
          <a:xfrm>
            <a:off x="4724280" y="1292400"/>
            <a:ext cx="3544920" cy="25952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день знаний.JPG"/>
          <p:cNvPicPr/>
          <p:nvPr/>
        </p:nvPicPr>
        <p:blipFill>
          <a:blip r:embed="rId6"/>
          <a:stretch/>
        </p:blipFill>
        <p:spPr>
          <a:xfrm>
            <a:off x="4876920" y="4002120"/>
            <a:ext cx="35049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5T07:44:46Z</dcterms:created>
  <dc:creator>user</dc:creator>
  <dc:description/>
  <dc:language>en-US</dc:language>
  <cp:lastModifiedBy>User</cp:lastModifiedBy>
  <dcterms:modified xsi:type="dcterms:W3CDTF">2020-10-29T06:40:42Z</dcterms:modified>
  <cp:revision>163</cp:revision>
  <dc:subject/>
  <dc:title>Слайд 1</dc:title>
</cp:coreProperties>
</file>