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0538-E948-4ABD-95F6-C5933904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30C6-1FF7-49BD-B26C-294FF8D6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5FA8-ED30-412A-9154-E2BFCCD0B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E35F-0E93-4365-9BF4-4EF8DFF6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C4A2-93EE-4578-A72F-DB8E9794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07CB-A4A2-455E-B1B9-BDBC2D87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C2CA-2B84-454E-B341-FCAEF71C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9255-5148-4ECF-8884-EEC8BF9E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5A6C-C7CE-4481-8661-D3ACAE52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EDC1-333F-4974-A002-E8FA2F31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EF4C-55BC-4650-84ED-CE5849EA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0D5B-EAE1-4103-90B7-4AAF0D78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35C9-EB74-48FF-8A35-0999769C771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8CAD-E07B-4284-9B6B-8517130174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11" descr="Рисунок1"/>
          <p:cNvPicPr/>
          <p:nvPr/>
        </p:nvPicPr>
        <p:blipFill>
          <a:blip r:embed="rId2"/>
          <a:stretch/>
        </p:blipFill>
        <p:spPr>
          <a:xfrm>
            <a:off x="152280" y="1297080"/>
            <a:ext cx="8839440" cy="55609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250920" y="465300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Britannic Bold"/>
              </a:rPr>
              <a:t>Уважаемые коллег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Britannic Bold"/>
              </a:rPr>
              <a:t>Мы рады приветствовать вас от 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Britannic Bold"/>
              </a:rPr>
              <a:t>Уральского государственного педагогического университе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3"/>
          <a:stretch/>
        </p:blipFill>
        <p:spPr>
          <a:xfrm>
            <a:off x="2666880" y="1752480"/>
            <a:ext cx="3756240" cy="2968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4"/>
          <a:stretch/>
        </p:blipFill>
        <p:spPr>
          <a:xfrm>
            <a:off x="3505320" y="2438280"/>
            <a:ext cx="2192040" cy="16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1AF2-DFAD-46B4-99CB-CA260A1F53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фон презентации"/>
          <p:cNvPicPr/>
          <p:nvPr/>
        </p:nvPicPr>
        <p:blipFill>
          <a:blip r:embed="rId2"/>
          <a:stretch/>
        </p:blipFill>
        <p:spPr>
          <a:xfrm>
            <a:off x="-10800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1"/>
          <p:cNvSpPr/>
          <p:nvPr/>
        </p:nvSpPr>
        <p:spPr>
          <a:xfrm>
            <a:off x="228600" y="1424160"/>
            <a:ext cx="7872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 вопросам Вы можете обращать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нтр академического взаимо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номеру телефона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7(343)336-14-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ректор Центра: Белоусова Наталья Сагидулл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1332000" y="1793160"/>
            <a:ext cx="645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Arial"/>
                <a:ea typeface="Arial"/>
              </a:rPr>
              <a:t>Благодарим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9" descr="IMG_2038.JPG"/>
          <p:cNvPicPr/>
          <p:nvPr/>
        </p:nvPicPr>
        <p:blipFill>
          <a:blip r:embed="rId2"/>
          <a:stretch/>
        </p:blipFill>
        <p:spPr>
          <a:xfrm>
            <a:off x="2571840" y="3643200"/>
            <a:ext cx="402408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9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A0C2-9D08-4651-9E9B-02866AFC0B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фон презентации"/>
          <p:cNvPicPr/>
          <p:nvPr/>
        </p:nvPicPr>
        <p:blipFill>
          <a:blip r:embed="rId2"/>
          <a:stretch/>
        </p:blipFill>
        <p:spPr>
          <a:xfrm>
            <a:off x="-108000" y="-171360"/>
            <a:ext cx="9252000" cy="7029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152280" y="1103400"/>
            <a:ext cx="8686800" cy="5583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2195640" y="260280"/>
            <a:ext cx="65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оект «Педагогические класс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8963-4F3E-4015-B068-C0B73FDE04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7" descr="PHOTO-2019-09-16-10-24-25.jpg"/>
          <p:cNvPicPr/>
          <p:nvPr/>
        </p:nvPicPr>
        <p:blipFill>
          <a:blip r:embed="rId1"/>
          <a:stretch/>
        </p:blipFill>
        <p:spPr>
          <a:xfrm>
            <a:off x="179280" y="692280"/>
            <a:ext cx="88678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7085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24000" y="274680"/>
            <a:ext cx="6562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сновная цель работы педагогического класс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468360" y="2528640"/>
            <a:ext cx="828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формирование у обучающихся целенаправленной </a:t>
            </a:r>
            <a:r>
              <a:rPr b="0" lang="ru-RU" sz="2800" spc="-1" strike="noStrike">
                <a:solidFill>
                  <a:srgbClr val="1f497d"/>
                </a:solidFill>
                <a:latin typeface="Arial Black"/>
              </a:rPr>
              <a:t>профессионально-педагогической</a:t>
            </a:r>
            <a:r>
              <a:rPr b="0" lang="ru-RU" sz="2800" spc="-1" strike="noStrike">
                <a:solidFill>
                  <a:srgbClr val="1f497d"/>
                </a:solidFill>
                <a:latin typeface="Arial"/>
              </a:rPr>
              <a:t> ориентации, устойчивого интереса к педагогической деяте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-108000" y="0"/>
            <a:ext cx="9252000" cy="70293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24000" y="274680"/>
            <a:ext cx="6562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рганизационные мод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68360" y="1628280"/>
            <a:ext cx="8207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Calibri"/>
              </a:rPr>
              <a:t>Педагогический класс создаётся на базе образовательной организац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Обучение ведется по предложенной университетом программ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5"/>
          <p:cNvSpPr/>
          <p:nvPr/>
        </p:nvSpPr>
        <p:spPr>
          <a:xfrm>
            <a:off x="539640" y="175536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Arial"/>
              </a:rPr>
              <a:t>2. Педагогический класс создаётся на базе школы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</a:rPr>
              <a:t>, которая выступает в качестве ресурсного центра, в котором обучаются ученики разных школ.  Обучение ведется по предложенной университетом программ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Заголовок 6"/>
          <p:cNvSpPr/>
          <p:nvPr/>
        </p:nvSpPr>
        <p:spPr>
          <a:xfrm>
            <a:off x="2124000" y="274680"/>
            <a:ext cx="6562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Организационные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70" name="Заголовок 6"/>
          <p:cNvSpPr/>
          <p:nvPr/>
        </p:nvSpPr>
        <p:spPr>
          <a:xfrm>
            <a:off x="2124000" y="274680"/>
            <a:ext cx="6562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Дисциплин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79280" y="1938240"/>
            <a:ext cx="8353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«Введение в профессиональную деятельность» (Введение в педагогику, Информационная культура педагога, социально-культурные проекты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Психологический практикум «Я – лидер: стратегии успеха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Arial"/>
                <a:ea typeface="Arial"/>
              </a:rPr>
              <a:t>Основы межкультурной коммуник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фон презентац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74" name="Заголовок 6"/>
          <p:cNvSpPr/>
          <p:nvPr/>
        </p:nvSpPr>
        <p:spPr>
          <a:xfrm>
            <a:off x="2124000" y="274680"/>
            <a:ext cx="65628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УрГПУ предлаг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395280" y="1715760"/>
            <a:ext cx="8353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1. Преподаватели университета проводят курсы повышения квалификации и осуществляют методическое сопровождение педагогов, работающих в педагогических клас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2. Преподаватели университета проводят занятия с учениками в очной (на сессиях) и очно-заочной (дистантной)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3. Преподаватели университета осуществляют педагогическое сопровождение процесса обучения и проводят независимую оценку качества подготовки обучаю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4. Осуществляют информационное сопровождение процесса формирования педагогических клас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0AA9-3C3F-441A-A6C9-D3E6678494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фон презентации"/>
          <p:cNvPicPr/>
          <p:nvPr/>
        </p:nvPicPr>
        <p:blipFill>
          <a:blip r:embed="rId2"/>
          <a:stretch/>
        </p:blipFill>
        <p:spPr>
          <a:xfrm>
            <a:off x="304920" y="96840"/>
            <a:ext cx="8534160" cy="600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"/>
          <p:cNvPicPr/>
          <p:nvPr/>
        </p:nvPicPr>
        <p:blipFill>
          <a:blip r:embed="rId3"/>
          <a:srcRect l="5661" t="0" r="0" b="-1749"/>
          <a:stretch/>
        </p:blipFill>
        <p:spPr>
          <a:xfrm>
            <a:off x="344520" y="1292400"/>
            <a:ext cx="3809880" cy="2666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EYjai99RxyA"/>
          <p:cNvPicPr/>
          <p:nvPr/>
        </p:nvPicPr>
        <p:blipFill>
          <a:blip r:embed="rId4"/>
          <a:stretch/>
        </p:blipFill>
        <p:spPr>
          <a:xfrm>
            <a:off x="344520" y="4140360"/>
            <a:ext cx="3809880" cy="25383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9" descr="IMG_2088.JPG"/>
          <p:cNvPicPr/>
          <p:nvPr/>
        </p:nvPicPr>
        <p:blipFill>
          <a:blip r:embed="rId5"/>
          <a:srcRect l="0" t="0" r="0" b="-826"/>
          <a:stretch/>
        </p:blipFill>
        <p:spPr>
          <a:xfrm>
            <a:off x="4724280" y="1292400"/>
            <a:ext cx="3544920" cy="259524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6" descr="день знаний.JPG"/>
          <p:cNvPicPr/>
          <p:nvPr/>
        </p:nvPicPr>
        <p:blipFill>
          <a:blip r:embed="rId6"/>
          <a:stretch/>
        </p:blipFill>
        <p:spPr>
          <a:xfrm>
            <a:off x="4876920" y="4002120"/>
            <a:ext cx="350496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5T07:44:46Z</dcterms:created>
  <dc:creator>user</dc:creator>
  <dc:description/>
  <dc:language>en-US</dc:language>
  <cp:lastModifiedBy>User</cp:lastModifiedBy>
  <dcterms:modified xsi:type="dcterms:W3CDTF">2020-10-29T06:40:42Z</dcterms:modified>
  <cp:revision>163</cp:revision>
  <dc:subject/>
  <dc:title>Слайд 1</dc:title>
</cp:coreProperties>
</file>