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538-404A-420F-9973-7614EC6B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F9D-2691-432C-B613-5817311D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D29-5E9A-4577-B1A4-D7F59F84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AB7-8F57-40C4-BDD5-C32F724C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557-74E8-485A-9763-D3408EFB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CC8-7DE3-4EB4-8DB1-C4AEF0E7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4A8-EAAD-44BD-82D3-71356576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F76-58C4-47B7-A6AF-8546331A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46B-8BF1-4CAC-9E83-B397F33F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D6F-B6A7-457E-83AC-2FDFE16B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CD8-CF2E-4F69-B7C8-58EACA31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A80-29A2-474E-9049-244A445C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40D5-ED36-4D13-BBE6-B6EEA469B4D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9CE4-0AB2-401E-913B-94D8B30BD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1" descr="Рисунок1"/>
          <p:cNvPicPr/>
          <p:nvPr/>
        </p:nvPicPr>
        <p:blipFill>
          <a:blip r:embed="rId2"/>
          <a:stretch/>
        </p:blipFill>
        <p:spPr>
          <a:xfrm>
            <a:off x="152280" y="1297080"/>
            <a:ext cx="8839440" cy="5560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50920" y="465300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важаемые коллег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Мы рады приветствовать вас от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ральского государственного педагогического универс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2666880" y="1752480"/>
            <a:ext cx="3756240" cy="296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21920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33E2-624E-44FE-9BDC-60CA771FE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28600" y="1424160"/>
            <a:ext cx="7872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вопросам Вы можете обраща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 академического взаимо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номеру телефон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7(343)336-14-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 Центра: Белоусова Наталья Сагидул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1332000" y="1793160"/>
            <a:ext cx="645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9" descr="IMG_2038.JPG"/>
          <p:cNvPicPr/>
          <p:nvPr/>
        </p:nvPicPr>
        <p:blipFill>
          <a:blip r:embed="rId2"/>
          <a:stretch/>
        </p:blipFill>
        <p:spPr>
          <a:xfrm>
            <a:off x="2571840" y="3643200"/>
            <a:ext cx="4024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4A6F-3CF4-455B-9CE6-A59A570785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-17136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152280" y="1103400"/>
            <a:ext cx="8686800" cy="558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2195640" y="260280"/>
            <a:ext cx="65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ект «Педагогические класс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5382-04A0-48BF-8EA2-A92BD7E426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PHOTO-2019-09-16-10-24-25.jpg"/>
          <p:cNvPicPr/>
          <p:nvPr/>
        </p:nvPicPr>
        <p:blipFill>
          <a:blip r:embed="rId1"/>
          <a:stretch/>
        </p:blipFill>
        <p:spPr>
          <a:xfrm>
            <a:off x="179280" y="692280"/>
            <a:ext cx="8867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85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сновная цель работы педагогического клас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68360" y="2528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формирование у обучающихся целенаправленной </a:t>
            </a: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профессионально-педагогической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ориентации, устойчивого интереса к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628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Педагогический класс создаётся на базе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бучение ведется по предложенной университетом програм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39640" y="175536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2. Педагогический класс создаётся на базе школы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, которая выступает в качестве ресурсного центра, в котором обучаются ученики разных школ.  Обучение ведется по предложенной университетом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93824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«Введение в профессиональную деятельность» (Введение в педагогику, Информационная культура педагога, социально-культурные проекты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Психологический практикум «Я – лидер: стратегии успех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сновы межкультурной коммун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рГПУ предлаг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171576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 Преподаватели университета проводят курсы повышения квалификации и осуществляют методическое сопровождение педагогов, работающих в педагогически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2. Преподаватели университета проводят занятия с учениками в очной (на сессиях) и очно-заочной (дистантной)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3. Преподаватели университета осуществляют педагогическое сопровождение процесса обучения и проводят независимую оценку качества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4. Осуществляют информационное сопровождение процесса формирования педагогическ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2E85-88EA-4DB9-8876-644199C39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304920" y="96840"/>
            <a:ext cx="8534160" cy="600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rcRect l="5661" t="0" r="0" b="-1749"/>
          <a:stretch/>
        </p:blipFill>
        <p:spPr>
          <a:xfrm>
            <a:off x="344520" y="12924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EYjai99RxyA"/>
          <p:cNvPicPr/>
          <p:nvPr/>
        </p:nvPicPr>
        <p:blipFill>
          <a:blip r:embed="rId4"/>
          <a:stretch/>
        </p:blipFill>
        <p:spPr>
          <a:xfrm>
            <a:off x="344520" y="4140360"/>
            <a:ext cx="380988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IMG_2088.JPG"/>
          <p:cNvPicPr/>
          <p:nvPr/>
        </p:nvPicPr>
        <p:blipFill>
          <a:blip r:embed="rId5"/>
          <a:srcRect l="0" t="0" r="0" b="-826"/>
          <a:stretch/>
        </p:blipFill>
        <p:spPr>
          <a:xfrm>
            <a:off x="4724280" y="1292400"/>
            <a:ext cx="3544920" cy="2595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день знаний.JPG"/>
          <p:cNvPicPr/>
          <p:nvPr/>
        </p:nvPicPr>
        <p:blipFill>
          <a:blip r:embed="rId6"/>
          <a:stretch/>
        </p:blipFill>
        <p:spPr>
          <a:xfrm>
            <a:off x="4876920" y="4002120"/>
            <a:ext cx="35049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07:44:46Z</dcterms:created>
  <dc:creator>user</dc:creator>
  <dc:description/>
  <dc:language>en-US</dc:language>
  <cp:lastModifiedBy>User</cp:lastModifiedBy>
  <dcterms:modified xsi:type="dcterms:W3CDTF">2020-10-29T06:40:42Z</dcterms:modified>
  <cp:revision>163</cp:revision>
  <dc:subject/>
  <dc:title>Слайд 1</dc:title>
</cp:coreProperties>
</file>