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5E88-B5A3-4985-BE76-FD027338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8ED3-09D3-48C3-B423-9DA5E9CD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9D93-3A99-48A1-B8A9-490B0309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6CC-CC1D-4718-A879-DC481FF6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7F1-4F8D-4FE6-BD31-A8C1E276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54A4-1774-4332-8C18-03CDEF40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2D1-2673-4F11-8757-0EEC3B6D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6104-D28B-472C-8525-944D4713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C997-A1AE-4C2A-A74E-0A5B26CB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DBFE-5353-4CD4-9841-43D0348A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42F-6D52-4DD0-A86F-DC5F4128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A69D-4994-4410-83FC-D6317CB9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A264-28B9-4C3D-9DC2-0180228F1F1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4BC1-1787-4772-84E2-CBAC58B7BB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1" descr="Рисунок1"/>
          <p:cNvPicPr/>
          <p:nvPr/>
        </p:nvPicPr>
        <p:blipFill>
          <a:blip r:embed="rId2"/>
          <a:stretch/>
        </p:blipFill>
        <p:spPr>
          <a:xfrm>
            <a:off x="152280" y="1297080"/>
            <a:ext cx="8839440" cy="55609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50920" y="465300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Britannic Bold"/>
              </a:rPr>
              <a:t>Уважаемые коллег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Britannic Bold"/>
              </a:rPr>
              <a:t>Мы рады приветствовать вас от 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Britannic Bold"/>
              </a:rPr>
              <a:t>Уральского государственного педагогического университе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2666880" y="1752480"/>
            <a:ext cx="3756240" cy="2968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4"/>
          <a:stretch/>
        </p:blipFill>
        <p:spPr>
          <a:xfrm>
            <a:off x="3505320" y="2438280"/>
            <a:ext cx="219204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D879-2230-424C-BE42-B72CA1E357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фон презентации"/>
          <p:cNvPicPr/>
          <p:nvPr/>
        </p:nvPicPr>
        <p:blipFill>
          <a:blip r:embed="rId2"/>
          <a:stretch/>
        </p:blipFill>
        <p:spPr>
          <a:xfrm>
            <a:off x="-10800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228600" y="1424160"/>
            <a:ext cx="7872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вопросам Вы можете обращать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нтр академического взаимо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номеру телефона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7(343)336-14-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ректор Центра: Белоусова Наталья Сагидул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1332000" y="1793160"/>
            <a:ext cx="645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Arial"/>
                <a:ea typeface="Arial"/>
              </a:rPr>
              <a:t>Благодарим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9" descr="IMG_2038.JPG"/>
          <p:cNvPicPr/>
          <p:nvPr/>
        </p:nvPicPr>
        <p:blipFill>
          <a:blip r:embed="rId2"/>
          <a:stretch/>
        </p:blipFill>
        <p:spPr>
          <a:xfrm>
            <a:off x="2571840" y="3643200"/>
            <a:ext cx="402408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5FA0-7E8D-41DE-9C33-158267BAAB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фон презентации"/>
          <p:cNvPicPr/>
          <p:nvPr/>
        </p:nvPicPr>
        <p:blipFill>
          <a:blip r:embed="rId2"/>
          <a:stretch/>
        </p:blipFill>
        <p:spPr>
          <a:xfrm>
            <a:off x="-108000" y="-17136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152280" y="1103400"/>
            <a:ext cx="8686800" cy="5583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2195640" y="260280"/>
            <a:ext cx="65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оект «Педагогические класс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12F6-6504-47C2-B186-FCB61588A8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7" descr="PHOTO-2019-09-16-10-24-25.jpg"/>
          <p:cNvPicPr/>
          <p:nvPr/>
        </p:nvPicPr>
        <p:blipFill>
          <a:blip r:embed="rId1"/>
          <a:stretch/>
        </p:blipFill>
        <p:spPr>
          <a:xfrm>
            <a:off x="179280" y="692280"/>
            <a:ext cx="88678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7085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сновная цель работы педагогического класс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68360" y="252864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формирование у обучающихся целенаправленной </a:t>
            </a:r>
            <a:r>
              <a:rPr b="0" lang="ru-RU" sz="2800" spc="-1" strike="noStrike">
                <a:solidFill>
                  <a:srgbClr val="1f497d"/>
                </a:solidFill>
                <a:latin typeface="Arial Black"/>
              </a:rPr>
              <a:t>профессионально-педагогической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 ориентации, устойчивого интереса к педагог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рганизационные мод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62828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Педагогический класс создаётся на базе образовательн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Обучение ведется по предложенной университетом програм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539640" y="175536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2. Педагогический класс создаётся на базе школы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, которая выступает в качестве ресурсного центра, в котором обучаются ученики разных школ.  Обучение ведется по предложенной университетом програм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6"/>
          <p:cNvSpPr/>
          <p:nvPr/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рганизационные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6"/>
          <p:cNvSpPr/>
          <p:nvPr/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сциплин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79280" y="193824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«Введение в профессиональную деятельность» (Введение в педагогику, Информационная культура педагога, социально-культурные проекты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Психологический практикум «Я – лидер: стратегии успеха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Основы межкультурной коммуник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74" name="Заголовок 6"/>
          <p:cNvSpPr/>
          <p:nvPr/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рГПУ предлаг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95280" y="1715760"/>
            <a:ext cx="8353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1. Преподаватели университета проводят курсы повышения квалификации и осуществляют методическое сопровождение педагогов, работающих в педагогических клас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2. Преподаватели университета проводят занятия с учениками в очной (на сессиях) и очно-заочной (дистантной)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3. Преподаватели университета осуществляют педагогическое сопровождение процесса обучения и проводят независимую оценку качества подготовки обуч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4. Осуществляют информационное сопровождение процесса формирования педагогических кла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0B69-3BC0-4AFB-BD62-C33E643A20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фон презентации"/>
          <p:cNvPicPr/>
          <p:nvPr/>
        </p:nvPicPr>
        <p:blipFill>
          <a:blip r:embed="rId2"/>
          <a:stretch/>
        </p:blipFill>
        <p:spPr>
          <a:xfrm>
            <a:off x="304920" y="96840"/>
            <a:ext cx="8534160" cy="600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3"/>
          <a:srcRect l="5661" t="0" r="0" b="-1749"/>
          <a:stretch/>
        </p:blipFill>
        <p:spPr>
          <a:xfrm>
            <a:off x="344520" y="1292400"/>
            <a:ext cx="380988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EYjai99RxyA"/>
          <p:cNvPicPr/>
          <p:nvPr/>
        </p:nvPicPr>
        <p:blipFill>
          <a:blip r:embed="rId4"/>
          <a:stretch/>
        </p:blipFill>
        <p:spPr>
          <a:xfrm>
            <a:off x="344520" y="4140360"/>
            <a:ext cx="3809880" cy="25383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IMG_2088.JPG"/>
          <p:cNvPicPr/>
          <p:nvPr/>
        </p:nvPicPr>
        <p:blipFill>
          <a:blip r:embed="rId5"/>
          <a:srcRect l="0" t="0" r="0" b="-826"/>
          <a:stretch/>
        </p:blipFill>
        <p:spPr>
          <a:xfrm>
            <a:off x="4724280" y="1292400"/>
            <a:ext cx="3544920" cy="25952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день знаний.JPG"/>
          <p:cNvPicPr/>
          <p:nvPr/>
        </p:nvPicPr>
        <p:blipFill>
          <a:blip r:embed="rId6"/>
          <a:stretch/>
        </p:blipFill>
        <p:spPr>
          <a:xfrm>
            <a:off x="4876920" y="4002120"/>
            <a:ext cx="35049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5T07:44:46Z</dcterms:created>
  <dc:creator>user</dc:creator>
  <dc:description/>
  <dc:language>en-US</dc:language>
  <cp:lastModifiedBy>User</cp:lastModifiedBy>
  <dcterms:modified xsi:type="dcterms:W3CDTF">2020-10-29T06:40:42Z</dcterms:modified>
  <cp:revision>163</cp:revision>
  <dc:subject/>
  <dc:title>Слайд 1</dc:title>
</cp:coreProperties>
</file>